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gif" ContentType="image/gif"/>
  <Override PartName="/ppt/media/image18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20.gif" ContentType="image/gif"/>
  <Override PartName="/ppt/media/image19.wmf" ContentType="image/x-wmf"/>
  <Override PartName="/ppt/media/image17.wmf" ContentType="image/x-wmf"/>
  <Override PartName="/ppt/media/image14.gif" ContentType="image/gif"/>
  <Override PartName="/ppt/media/image1.gif" ContentType="image/gif"/>
  <Override PartName="/ppt/media/image2.wmf" ContentType="image/x-wmf"/>
  <Override PartName="/ppt/media/image15.wmf" ContentType="image/x-wmf"/>
  <Override PartName="/ppt/media/image4.gif" ContentType="image/gif"/>
  <Override PartName="/ppt/media/image8.png" ContentType="image/png"/>
  <Override PartName="/ppt/media/image16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F91-B4A2-40A5-BDFE-82D55000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6F0-E525-4A46-B1E4-423CB2C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449-07C7-48B3-A157-A65B8C83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AF2-3F0A-4B01-9768-EDF5C8CB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EDA-9098-4F74-AEB3-E157A18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648-8079-4E24-8F0F-C4FF884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F0B-E4C9-4537-8EFD-2B4EABF0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DAD-5947-4467-AAA3-F1ABF9A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536-4938-4951-A18F-6CCC0923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B08-25E2-468E-8C65-22B68C90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02C-1379-4C12-98C2-D5C1200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901-2FCF-4AB9-B30D-D71B77E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A115-77BC-44CE-ABDB-2CAC5FFF4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5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den Count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-12 Ma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Core State Standa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38862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19306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What Do We Do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 within your school when you’ll meet as a P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 lead by your Leadership Contac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ways have agenda and sign-in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cuss rolling out the new C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cide on any PD you may need as a schoo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plete Modules and print certificates (file in notebook in your front off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ecome familiar with th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atch for changes/new information as it becomes available from D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ok for PD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hare! Share! Share! (Our chain is only as strong as the weakest lin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1067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Did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Do you know why you’re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eeling “Ready ,Set ,Go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onfident in your “Race to the Top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Is ACRE more than a parcel of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Does CCSS affect you? 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Ready to walk the Crosswalk? Unp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eeling WIKI-rea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14240" cy="184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525780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676520"/>
            <a:ext cx="8991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ank You For Being Here Today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essional Learning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y Level : Dr. Marily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ct Level :  BCS Desig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Level : Leadershi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Level :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eady,Set,Go? Race to the Top? ACRE? Common Core? Essential Standards? Unpacking Documents? Crosswal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IKI? Do I really need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slips in the envelope on your table, work in your group to match the names to the defin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8120" y="468360"/>
            <a:ext cx="3052800" cy="3032640"/>
            <a:chOff x="168120" y="468360"/>
            <a:chExt cx="3052800" cy="3032640"/>
          </a:xfrm>
        </p:grpSpPr>
        <p:sp>
          <p:nvSpPr>
            <p:cNvPr id="55" name="Puzzle3"/>
            <p:cNvSpPr/>
            <p:nvPr/>
          </p:nvSpPr>
          <p:spPr>
            <a:xfrm rot="1972800">
              <a:off x="1991520" y="712440"/>
              <a:ext cx="846000" cy="1660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2"/>
            <p:cNvSpPr/>
            <p:nvPr/>
          </p:nvSpPr>
          <p:spPr>
            <a:xfrm rot="1972800">
              <a:off x="1128240" y="1743120"/>
              <a:ext cx="1350360" cy="151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uzzle4"/>
            <p:cNvSpPr/>
            <p:nvPr/>
          </p:nvSpPr>
          <p:spPr>
            <a:xfrm rot="1972800">
              <a:off x="627480" y="1264320"/>
              <a:ext cx="814320" cy="19335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1"/>
            <p:cNvSpPr/>
            <p:nvPr/>
          </p:nvSpPr>
          <p:spPr>
            <a:xfrm rot="1972800">
              <a:off x="934560" y="747000"/>
              <a:ext cx="1367280" cy="1152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941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624120" cy="297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19882800">
            <a:off x="1063800" y="1007640"/>
            <a:ext cx="270972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ntastic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 rot="1356600">
            <a:off x="5922720" y="1077840"/>
            <a:ext cx="28670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rvelous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19520" y="4419720"/>
            <a:ext cx="38862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onderful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20551200">
            <a:off x="509760" y="3125880"/>
            <a:ext cx="230472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ou Go Girl!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 rot="2288400">
            <a:off x="6963840" y="3487320"/>
            <a:ext cx="191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ou The Man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‘s Ne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rrently (2011-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eaching NC 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ssessing NC 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ext (Fall 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Teaching Common Core Stat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Assessing Common Core Stat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230560" cy="221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1828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1295280"/>
            <a:ext cx="8229600" cy="401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e need to clean our brushes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246240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Be Inform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urriculum (CCSS) is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FEWER-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less to cover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EEPER-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ore detai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HIGHER-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igher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37160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flipH="1" rot="10800000">
            <a:off x="7162920" y="228564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 rot="5400000">
            <a:off x="7772040" y="38862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16200000">
            <a:off x="7997040" y="4945320"/>
            <a:ext cx="919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Stay Inform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e have created a resource to provide information to all teachers at all tim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Comic Sans MS"/>
              </a:rPr>
              <a:t>It’s our WIKI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You will be invited to join the BCS 6-12 Math WIKI page!  (How excit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There,  you will be able to access information about the CCSS with all the resources we can create, borrow, or steal. :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81584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4120" y="5715000"/>
            <a:ext cx="19810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3:48:00Z</dcterms:created>
  <dc:creator>Bladen County Schools</dc:creator>
  <dc:description/>
  <dc:language>en-US</dc:language>
  <cp:lastModifiedBy>Bladen County Schools</cp:lastModifiedBy>
  <dcterms:modified xsi:type="dcterms:W3CDTF">2011-09-21T20:17:43Z</dcterms:modified>
  <cp:revision>16</cp:revision>
  <dc:subject/>
  <dc:title>Bladen County  6-12 Math Common Core State Standards </dc:title>
</cp:coreProperties>
</file>